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zorro-shor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BC9-D1A3-47E4-93ED-9334DE90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E92-68B8-4203-AA99-AE740362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553-580E-4165-A01B-3DB433DA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660-905D-447F-B6FD-F3637DF4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A29-E977-4BA5-A716-99439FAA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A30-FF8D-4103-B802-04FF336D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9D0-F496-4F25-8617-3FC9BC5F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230-CC69-4297-8176-0858758D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9B1-0F05-4389-97D6-B8FD4E39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88C-DC3D-43A0-A623-07573C16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993-A255-4EFB-B882-8DC86C2B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844-4FA1-4D29-A055-C537BD82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2455-872A-4F98-9C48-B827F9590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orro-sho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lass 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43000" y="1143000"/>
            <a:ext cx="6934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el of Fort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Picture 6" descr="girl_taking_test"/>
          <p:cNvPicPr/>
          <p:nvPr/>
        </p:nvPicPr>
        <p:blipFill>
          <a:blip r:embed="rId1"/>
          <a:stretch/>
        </p:blipFill>
        <p:spPr>
          <a:xfrm>
            <a:off x="3048120" y="1905120"/>
            <a:ext cx="25905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zorro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each student an index card with a number from 1-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are instructed to write a review question, math problem, or spelling word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he Spin But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wheel hits the number on the index card, the student chooses who will receive the question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4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4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5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6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4572000" y="1066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1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5"/>
          <p:cNvSpPr/>
          <p:nvPr/>
        </p:nvSpPr>
        <p:spPr>
          <a:xfrm rot="4344000">
            <a:off x="5714640" y="182880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24:23Z</dcterms:created>
  <dc:creator>Connie Campbell</dc:creator>
  <dc:description/>
  <dc:language>en-US</dc:language>
  <cp:lastModifiedBy>jskidd</cp:lastModifiedBy>
  <dcterms:modified xsi:type="dcterms:W3CDTF">2009-11-13T20:21:06Z</dcterms:modified>
  <cp:revision>6</cp:revision>
  <dc:subject/>
  <dc:title>Wheel of Fortune</dc:title>
</cp:coreProperties>
</file>